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44.jpeg" ContentType="image/jpeg"/>
  <Override PartName="/ppt/media/image41.jpeg" ContentType="image/jpeg"/>
  <Override PartName="/ppt/media/image45.jpeg" ContentType="image/jpeg"/>
  <Override PartName="/ppt/media/image38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46.jpeg" ContentType="image/jpeg"/>
  <Override PartName="/ppt/media/image12.png" ContentType="image/png"/>
  <Override PartName="/ppt/media/image20.jpeg" ContentType="image/jpeg"/>
  <Override PartName="/ppt/media/image4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507-C974-4E8B-9870-42622055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6344-81B3-4FD7-BA5F-EDCA44D8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5559-1687-42C7-8E71-2380F6FB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E44-E95E-42F2-95FE-90503BA1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8163-4100-4803-822E-B45E38BA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1C57-8B9F-4846-A53F-C571B2DA2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5A7-C0FB-4FCB-A0AD-7E825B0B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2973-43A8-45B2-B9CA-316CE51D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179-384E-4F76-8BD6-67C32C7F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32A-8C5B-4322-AC9B-EAC172DF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B4F3-9BEF-42E6-B587-445E79DC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768B-C522-4C11-94AD-B35300BF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4E6-E409-4039-A15C-C7274656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D688-187E-46BE-B541-019A4B07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555-C0B7-4C2A-86DE-4E0D7F32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B26-90C3-46B3-9704-F1940E92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655-1D79-4C3D-A15D-DF6DBF5C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5B9-2390-446F-BCA9-1DCC8D36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DDA-532B-40B6-A5C7-766DF5BC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DAA3-D394-4B8C-B09B-F373A8D9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783D-E88A-47EE-ACAE-97845F2D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658-08BC-46D1-9CA1-92A1C4E7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2AC2-C341-4AA5-92FB-F3FE9698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94D-1A93-4632-82F5-F4CD31FE5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5F0B-203E-4AD2-AB38-38016CFF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429B-DB96-4F71-8F43-BC253709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61C-A378-43EF-BC40-05836921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7188-536B-470F-947E-5B0C1086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7CA-5786-437A-B9BA-C82B69CA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6A6-21BC-4A74-BB28-EAA908B0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AD6-1A81-467A-B365-715E93E5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FED-AE8F-4591-AE59-51414B0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5C2-2BE3-4615-A6D4-D3F0427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222-137E-4B49-ABB7-C8E3A21B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107-1E9B-4F18-AFA7-1020726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A1A-31C4-4B9B-9F9C-35DF4E2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9B8-BEB6-4730-90B2-7523AA9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FD0-BBA9-4A18-9093-F8A6E92C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C80-3046-40C9-A350-AF55551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0FD-9CE1-4CE9-89B4-97A3841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C0B-99D0-47BD-882C-9994C44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57D-B7C8-4F2A-813A-BF4F413C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AA0-FB6C-46A7-9E18-711294B1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rockefeller.edu/vaf/strep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rockefeller.edu/vaf/strep.htm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Xi2Nc1UicQ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parts.mit.edu/igem07/index.php/Image:BU_conjugation.jp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lb.ac.be/sciences/biodic/ImBacterie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ell"/>
          <p:cNvPicPr/>
          <p:nvPr/>
        </p:nvPicPr>
        <p:blipFill>
          <a:blip r:embed="rId1"/>
          <a:stretch/>
        </p:blipFill>
        <p:spPr>
          <a:xfrm>
            <a:off x="762120" y="457200"/>
            <a:ext cx="5341680" cy="6126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228960" y="60955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 rot="5400000">
            <a:off x="4190760" y="259056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6600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rokaryot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80"/>
                  </a:gs>
                  <a:gs pos="100000">
                    <a:srgbClr val="6600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ording to current scientific thought, about how old are prokaryot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karyotes</a:t>
            </a:r>
            <a:br>
              <a:rPr sz="7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meaning “before nucle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ttp://library.thinkquest.org/C004535/media/prokaryote.gif"/>
          <p:cNvPicPr/>
          <p:nvPr/>
        </p:nvPicPr>
        <p:blipFill>
          <a:blip r:embed="rId1"/>
          <a:stretch/>
        </p:blipFill>
        <p:spPr>
          <a:xfrm>
            <a:off x="2133720" y="1752480"/>
            <a:ext cx="54864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before nuclei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cell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cir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 has no e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irclets of DNA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m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“naked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t has no histones associated with it and does NOT form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prokaryot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term prokaryote used to describe the cells we are talking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rokaryotes are in th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er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blue-gree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library.thinkquest.org/C004535/media/bacillus_bacteria1.gif"/>
          <p:cNvPicPr/>
          <p:nvPr/>
        </p:nvPicPr>
        <p:blipFill>
          <a:blip r:embed="rId1"/>
          <a:stretch/>
        </p:blipFill>
        <p:spPr>
          <a:xfrm>
            <a:off x="228600" y="3124080"/>
            <a:ext cx="3809880" cy="311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0_24B"/>
          <p:cNvPicPr/>
          <p:nvPr/>
        </p:nvPicPr>
        <p:blipFill>
          <a:blip r:embed="rId2"/>
          <a:stretch/>
        </p:blipFill>
        <p:spPr>
          <a:xfrm>
            <a:off x="4343400" y="3429000"/>
            <a:ext cx="447660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kingdom to do all prokaryotes belong to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mall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few internal stru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informatio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las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cell wal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terial cells are very 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oughly the size of an animal mitochondr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-2µm in diameter and 10 µm l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µm = one millionth of a 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one thousandth of a millime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acsiz"/>
          <p:cNvPicPr/>
          <p:nvPr/>
        </p:nvPicPr>
        <p:blipFill>
          <a:blip r:embed="rId1"/>
          <a:stretch/>
        </p:blipFill>
        <p:spPr>
          <a:xfrm>
            <a:off x="2209680" y="3429000"/>
            <a:ext cx="496260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orm_and_Function__Bacteria_are_the_Simplest_Organisms.asf" descr=""/>
          <p:cNvPicPr/>
          <p:nvPr/>
        </p:nvPicPr>
        <p:blipFill>
          <a:blip r:embed="rId1"/>
          <a:stretch/>
        </p:blipFill>
        <p:spPr>
          <a:xfrm>
            <a:off x="1371600" y="1679400"/>
            <a:ext cx="670572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size of an average Prokaryot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notes focus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the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acteriacell"/>
          <p:cNvPicPr/>
          <p:nvPr/>
        </p:nvPicPr>
        <p:blipFill>
          <a:blip r:embed="rId1"/>
          <a:stretch/>
        </p:blipFill>
        <p:spPr>
          <a:xfrm>
            <a:off x="1295280" y="1335240"/>
            <a:ext cx="632484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have few internal struct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419720" y="3878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7652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iology - 71.125"/>
          <p:cNvPicPr/>
          <p:nvPr/>
        </p:nvPicPr>
        <p:blipFill>
          <a:blip r:embed="rId2"/>
          <a:stretch/>
        </p:blipFill>
        <p:spPr>
          <a:xfrm>
            <a:off x="3581280" y="2514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104640" y="6324480"/>
            <a:ext cx="58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science/biological_sciences/lab3/biolab3_2.html#Ex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genetic informa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plasm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coli cell divid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 Grows in human intesti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ingle, circular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DNA as plasm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ids are extra-chromosoma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01l2eco"/>
          <p:cNvPicPr/>
          <p:nvPr/>
        </p:nvPicPr>
        <p:blipFill>
          <a:blip r:embed="rId1"/>
          <a:stretch/>
        </p:blipFill>
        <p:spPr>
          <a:xfrm>
            <a:off x="457200" y="1828800"/>
            <a:ext cx="38736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1054800" y="6095880"/>
            <a:ext cx="38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.mtu.edu/campbell/prokary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Strong cell walls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01l2f4"/>
          <p:cNvPicPr/>
          <p:nvPr/>
        </p:nvPicPr>
        <p:blipFill>
          <a:blip r:embed="rId1"/>
          <a:srcRect l="16877" t="7412" r="7522" b="12591"/>
          <a:stretch/>
        </p:blipFill>
        <p:spPr>
          <a:xfrm>
            <a:off x="1752480" y="1676520"/>
            <a:ext cx="563904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scribe the 5 items used to classify a prokaryo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cci - sp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illi - ro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rilla –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h - in clust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ep - in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library.thinkquest.org/C004535/media/e_coli_bacteria.gif"/>
          <p:cNvPicPr/>
          <p:nvPr/>
        </p:nvPicPr>
        <p:blipFill>
          <a:blip r:embed="rId1"/>
          <a:stretch/>
        </p:blipFill>
        <p:spPr>
          <a:xfrm>
            <a:off x="5867280" y="3581280"/>
            <a:ext cx="1828800" cy="1495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hains of nearly-spherical bacteria"/>
          <p:cNvPicPr/>
          <p:nvPr/>
        </p:nvPicPr>
        <p:blipFill>
          <a:blip r:embed="rId2"/>
          <a:stretch/>
        </p:blipFill>
        <p:spPr>
          <a:xfrm>
            <a:off x="5410080" y="5334120"/>
            <a:ext cx="1828800" cy="1166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7391520" y="533412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. Chains of nearly-spherical bacte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Rockefeller Univers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This spiral shaped bacteria is the causitive agent of syphilis Treponema pallidum"/>
          <p:cNvPicPr/>
          <p:nvPr/>
        </p:nvPicPr>
        <p:blipFill>
          <a:blip r:embed="rId4"/>
          <a:stretch/>
        </p:blipFill>
        <p:spPr>
          <a:xfrm>
            <a:off x="5486400" y="1981080"/>
            <a:ext cx="1809720" cy="129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7543800" y="1905120"/>
            <a:ext cx="1143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bacteriashape"/>
          <p:cNvPicPr/>
          <p:nvPr/>
        </p:nvPicPr>
        <p:blipFill>
          <a:blip r:embed="rId5"/>
          <a:stretch/>
        </p:blipFill>
        <p:spPr>
          <a:xfrm>
            <a:off x="609480" y="3886200"/>
            <a:ext cx="35816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ins of nearly-spherical bacteria"/>
          <p:cNvPicPr/>
          <p:nvPr/>
        </p:nvPicPr>
        <p:blipFill>
          <a:blip r:embed="rId1"/>
          <a:stretch/>
        </p:blipFill>
        <p:spPr>
          <a:xfrm>
            <a:off x="685800" y="2590920"/>
            <a:ext cx="3733920" cy="2382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9480" y="50292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 of nearly-spherical bacter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Rockefeller Universi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1828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Sphere-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914400" y="304920"/>
            <a:ext cx="7315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cc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7" descr="roc1"/>
          <p:cNvPicPr/>
          <p:nvPr/>
        </p:nvPicPr>
        <p:blipFill>
          <a:blip r:embed="rId3"/>
          <a:stretch/>
        </p:blipFill>
        <p:spPr>
          <a:xfrm>
            <a:off x="5410080" y="2666880"/>
            <a:ext cx="275292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5335560" y="586656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his spiral shaped bacteria is the causitive agent of syphilis Treponema pallidum"/>
          <p:cNvPicPr/>
          <p:nvPr/>
        </p:nvPicPr>
        <p:blipFill>
          <a:blip r:embed="rId1"/>
          <a:stretch/>
        </p:blipFill>
        <p:spPr>
          <a:xfrm>
            <a:off x="2590920" y="2514600"/>
            <a:ext cx="4190760" cy="3006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33520" y="5943600"/>
            <a:ext cx="81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iri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6668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Spiral-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library.thinkquest.org/C004535/media/e_coli_bacteria.gif"/>
          <p:cNvPicPr/>
          <p:nvPr/>
        </p:nvPicPr>
        <p:blipFill>
          <a:blip r:embed="rId1"/>
          <a:stretch/>
        </p:blipFill>
        <p:spPr>
          <a:xfrm>
            <a:off x="2514600" y="2438280"/>
            <a:ext cx="4343400" cy="3551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79584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acill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167652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800" spc="-1" strike="noStrike">
                <a:solidFill>
                  <a:srgbClr val="9933ff"/>
                </a:solidFill>
                <a:latin typeface="Times New Roman"/>
              </a:rPr>
              <a:t>Rod-</a:t>
            </a:r>
            <a:r>
              <a:rPr b="1" i="1" lang="en-US" sz="38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short rods - (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occobacilli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commas - (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vibrii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3520" y="4572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termediate Shap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Picture 5" descr="g-rod3"/>
          <p:cNvPicPr/>
          <p:nvPr/>
        </p:nvPicPr>
        <p:blipFill>
          <a:blip r:embed="rId1"/>
          <a:stretch/>
        </p:blipFill>
        <p:spPr>
          <a:xfrm>
            <a:off x="1905120" y="2666880"/>
            <a:ext cx="4495680" cy="1468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-rodc~1"/>
          <p:cNvPicPr/>
          <p:nvPr/>
        </p:nvPicPr>
        <p:blipFill>
          <a:blip r:embed="rId2"/>
          <a:stretch/>
        </p:blipFill>
        <p:spPr>
          <a:xfrm>
            <a:off x="1600200" y="4800600"/>
            <a:ext cx="495288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iving things are made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can only come from other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functions of a living thing are carried out in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inder:  the functions of living things are: respiration, metabolism, growth, adaptations to the environment, reproduction, homeostasis and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squares </a:t>
            </a:r>
            <a:br>
              <a:rPr sz="6000"/>
            </a:b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stars </a:t>
            </a:r>
            <a:br>
              <a:rPr sz="6000"/>
            </a:b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irregular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60948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are shap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Cocci can divide to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chains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reptococci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groups of 4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etrads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irregular clusters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aphylococci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occus"/>
          <p:cNvPicPr/>
          <p:nvPr/>
        </p:nvPicPr>
        <p:blipFill>
          <a:blip r:embed="rId1"/>
          <a:stretch/>
        </p:blipFill>
        <p:spPr>
          <a:xfrm>
            <a:off x="5181480" y="1828800"/>
            <a:ext cx="3713400" cy="37339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oups or cluster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lif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img005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oups or cluster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Bacilli can divide to form chains (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treptobacilli</a:t>
            </a: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spiral bacteria normally remain as separate individu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image084"/>
          <p:cNvPicPr/>
          <p:nvPr/>
        </p:nvPicPr>
        <p:blipFill>
          <a:blip r:embed="rId1"/>
          <a:stretch/>
        </p:blipFill>
        <p:spPr>
          <a:xfrm>
            <a:off x="2286000" y="4572000"/>
            <a:ext cx="50292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review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img003"/>
          <p:cNvPicPr/>
          <p:nvPr/>
        </p:nvPicPr>
        <p:blipFill>
          <a:blip r:embed="rId1"/>
          <a:stretch/>
        </p:blipFill>
        <p:spPr>
          <a:xfrm>
            <a:off x="0" y="1752480"/>
            <a:ext cx="5638680" cy="422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ACTERIA"/>
          <p:cNvPicPr/>
          <p:nvPr/>
        </p:nvPicPr>
        <p:blipFill>
          <a:blip r:embed="rId2"/>
          <a:stretch/>
        </p:blipFill>
        <p:spPr>
          <a:xfrm>
            <a:off x="5486400" y="304920"/>
            <a:ext cx="3192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Or, how bacteria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838080" y="685800"/>
            <a:ext cx="7696440" cy="30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terial motil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ome bacteria can be identified by how they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ationary (don’t move at 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Flagella  (whip like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Rotation and tu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umber of flag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Monotrich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opho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mphi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eri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Spir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lime and o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verview of inf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ich means, some bacteria simply do not move - - at all,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457200" y="4572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main station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age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me bacteria are propelled (moved) by a whip-like structure called 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LAG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Flagella can be rotated like tiny outboard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When flagella rotation is reversed, bacteria tumble about in on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Bacterium with flagella"/>
          <p:cNvPicPr/>
          <p:nvPr/>
        </p:nvPicPr>
        <p:blipFill>
          <a:blip r:embed="rId1"/>
          <a:stretch/>
        </p:blipFill>
        <p:spPr>
          <a:xfrm>
            <a:off x="5410080" y="1905120"/>
            <a:ext cx="2540160" cy="10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flagella"/>
          <p:cNvPicPr/>
          <p:nvPr/>
        </p:nvPicPr>
        <p:blipFill>
          <a:blip r:embed="rId2"/>
          <a:stretch/>
        </p:blipFill>
        <p:spPr>
          <a:xfrm>
            <a:off x="4648320" y="3276720"/>
            <a:ext cx="4200480" cy="24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rangements of flage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notrichous-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one flagellum at only one pole or 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opho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a tuft of flagella at one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mphi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flagella at both 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i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flagella uniformly distributed over the body 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age022"/>
          <p:cNvPicPr/>
          <p:nvPr/>
        </p:nvPicPr>
        <p:blipFill>
          <a:blip r:embed="rId1"/>
          <a:stretch/>
        </p:blipFill>
        <p:spPr>
          <a:xfrm>
            <a:off x="5105520" y="19051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te the 3 points of cell theory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 the 7 characteristics of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5105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ike a corks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inking different parts of the bacteria body by hardening one side and the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ir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4" descr="Spiroplasma-kinking"/>
          <p:cNvPicPr/>
          <p:nvPr/>
        </p:nvPicPr>
        <p:blipFill>
          <a:blip r:embed="rId1"/>
          <a:stretch/>
        </p:blipFill>
        <p:spPr>
          <a:xfrm>
            <a:off x="5715000" y="1828800"/>
            <a:ext cx="294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ther bacteria secrete a slime layer and ooze over surfaces like sl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lime layer is formed by decomposition of the cell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lime and ooz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1" name="Picture 4" descr="bacterial cell structure shown in diagram"/>
          <p:cNvPicPr/>
          <p:nvPr/>
        </p:nvPicPr>
        <p:blipFill>
          <a:blip r:embed="rId1"/>
          <a:stretch/>
        </p:blipFill>
        <p:spPr>
          <a:xfrm>
            <a:off x="3886200" y="3886200"/>
            <a:ext cx="43434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14400" y="26668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r, how one bacteria can become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162920" cy="190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0" t="0" r="100000" b="100000"/>
            </a:path>
          </a:gradFill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14440"/>
            <a:ext cx="73152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c1d"/>
                </a:solidFill>
                <a:latin typeface="Arial"/>
              </a:rPr>
              <a:t>Click picture to watch video on Bacteri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447920"/>
            <a:ext cx="28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fi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ell splits into two ce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pring are genetically identical to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binary_fission"/>
          <p:cNvPicPr/>
          <p:nvPr/>
        </p:nvPicPr>
        <p:blipFill>
          <a:blip r:embed="rId1"/>
          <a:stretch/>
        </p:blipFill>
        <p:spPr>
          <a:xfrm>
            <a:off x="7772400" y="3048120"/>
            <a:ext cx="919080" cy="2185920"/>
          </a:xfrm>
          <a:prstGeom prst="rect">
            <a:avLst/>
          </a:prstGeom>
          <a:ln w="0">
            <a:noFill/>
          </a:ln>
        </p:spPr>
      </p:pic>
      <p:pic>
        <p:nvPicPr>
          <p:cNvPr id="179" name="Cell_Division__Bacteria_Reproduction.asf" descr=""/>
          <p:cNvPicPr/>
          <p:nvPr/>
        </p:nvPicPr>
        <p:blipFill>
          <a:blip r:embed="rId2"/>
          <a:stretch/>
        </p:blipFill>
        <p:spPr>
          <a:xfrm>
            <a:off x="1523880" y="258444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terial conju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sexual reproduction where bacteria exchange genetic information before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have new genes (and new tra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BU_conjug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523880"/>
            <a:ext cx="4227480" cy="4953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57200" y="518076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. Schematic drawing of bacterial conjugation. 1- Donor cell produces pilus; 2- Pilus attaches to recipient cell, brings the two cells together; 3- The mobile plasmid is nicked and a single strand of DNA is then transferred to the recipent cell; 4- Both cells recircularize their plasmids, synthesize second strands, and reproduce pili. Both cells are now viable don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124240" y="64008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arts.mit.edu/igem07/index.php/Boston_University/Conju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incorporate genes from dea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insert new genes into bacterial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is used in biotechnology to create bacteria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valuable products such as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486400" y="2209320"/>
            <a:ext cx="3200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n't move, while others have long threadlike flag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acteria doesn’t move, how does it get from person to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0_16"/>
          <p:cNvPicPr/>
          <p:nvPr/>
        </p:nvPicPr>
        <p:blipFill>
          <a:blip r:embed="rId1"/>
          <a:stretch/>
        </p:blipFill>
        <p:spPr>
          <a:xfrm>
            <a:off x="304920" y="2286000"/>
            <a:ext cx="457200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902160" y="55227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Coli flag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a Bacteria get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Autotrophs__Heterotrophs__and_Decomposers.asf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457200" y="838080"/>
            <a:ext cx="8229600" cy="2697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c Divers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90720" y="3809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Or, how bacteria get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groups of cells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karyotic and eukaryotic ce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are alive, all have a cell membrane, all hav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ance, structure, reproduction, and metabol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st differences are between cells of different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life_kingdoms"/>
          <p:cNvPicPr/>
          <p:nvPr/>
        </p:nvPicPr>
        <p:blipFill>
          <a:blip r:embed="rId1"/>
          <a:stretch/>
        </p:blipFill>
        <p:spPr>
          <a:xfrm>
            <a:off x="1066680" y="3733920"/>
            <a:ext cx="731520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4 main ways bacteria ge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Chemo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Photo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Photoautotro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Chemoautotro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nergy is released through either cellular respiration or 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xygen demand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bligate 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bligate an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Facultative an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verview of inf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Heterotrophs get energy by eating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hemo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carbon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to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Use sunlight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carbon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t least 95% of life on earth is heterotrophic (including peo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hemoheter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eat” same foods as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Release toxins that cause food poi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ntibiotic resistant strains cause breakout pictur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fig5"/>
          <p:cNvPicPr/>
          <p:nvPr/>
        </p:nvPicPr>
        <p:blipFill>
          <a:blip r:embed="rId1"/>
          <a:stretch/>
        </p:blipFill>
        <p:spPr>
          <a:xfrm>
            <a:off x="380880" y="2590920"/>
            <a:ext cx="2314800" cy="3495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staphylococcus_aureus"/>
          <p:cNvPicPr/>
          <p:nvPr/>
        </p:nvPicPr>
        <p:blipFill>
          <a:blip r:embed="rId2"/>
          <a:stretch/>
        </p:blipFill>
        <p:spPr>
          <a:xfrm>
            <a:off x="2133720" y="1752480"/>
            <a:ext cx="2361960" cy="18669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Arial"/>
              </a:rPr>
              <a:t>Jannaschia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arine bacteria found in coastal and open ocean surface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erobic anoxygenic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hototrop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(AAn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Gets its energy from light, not from eating other 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sponsible for oceanic photosynthesis in the ocean and the ocean carbon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janna_main1"/>
          <p:cNvPicPr/>
          <p:nvPr/>
        </p:nvPicPr>
        <p:blipFill>
          <a:blip r:embed="rId1"/>
          <a:stretch/>
        </p:blipFill>
        <p:spPr>
          <a:xfrm>
            <a:off x="5638680" y="1981080"/>
            <a:ext cx="3029040" cy="24228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utotrophs make their own energy from inorganic (not-living)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to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Uses sunlight (light energy) to convert CO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and H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 into Carbon compound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hemo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Make organic carbon molecules from CO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using energy from chemical reactions involving ammonia, hydrogen sulfide, nitrites or i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Cyanobacter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so called blue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ound in fresh water, salt water and on land near sources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hotoautotro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sunlight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to make energy and carbo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27-11x1-Cyanobacteria"/>
          <p:cNvPicPr/>
          <p:nvPr/>
        </p:nvPicPr>
        <p:blipFill>
          <a:blip r:embed="rId1"/>
          <a:stretch/>
        </p:blipFill>
        <p:spPr>
          <a:xfrm>
            <a:off x="4114800" y="2151000"/>
            <a:ext cx="45720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hemoautotroph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get energy and carbon from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me live near ocean vents like the one pi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ydrothermal vent photo"/>
          <p:cNvPicPr/>
          <p:nvPr/>
        </p:nvPicPr>
        <p:blipFill>
          <a:blip r:embed="rId1"/>
          <a:stretch/>
        </p:blipFill>
        <p:spPr>
          <a:xfrm>
            <a:off x="838080" y="2133720"/>
            <a:ext cx="359424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nce bacteria have “eaten” they need to break down their “food”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process of breaking down organic compounds into ATP (energy cells can use) is calle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ame 1</a:t>
            </a:r>
            <a:r>
              <a:rPr b="0" lang="en-US" sz="2800" spc="-1" strike="noStrike" baseline="30000">
                <a:solidFill>
                  <a:srgbClr val="9933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tep to begin with, but the lack or presence of oxygen determines the 2</a:t>
            </a:r>
            <a:r>
              <a:rPr b="0" lang="en-US" sz="2800" spc="-1" strike="noStrike" baseline="30000">
                <a:solidFill>
                  <a:srgbClr val="9933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ep one – Glyc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ep two – Fermentation or Kreb Cyc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To oversimplify the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fir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calle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Doesn’t require Oxygen (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naerob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Takes place in the cytosol (fluid surrounding organelles) of a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Breaks glucose into pyruvate creating ATP and H in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O oxyge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is present after glycolysis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rmentation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3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actic acid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mus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auses muscle cramps due to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used to make cheese and 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cetic Acid Fer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Forms 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lcohol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Forms ethyl alcohol and C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Used to make bread, wine and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Picture 4" descr="cheese_yogurt"/>
          <p:cNvPicPr/>
          <p:nvPr/>
        </p:nvPicPr>
        <p:blipFill>
          <a:blip r:embed="rId1"/>
          <a:stretch/>
        </p:blipFill>
        <p:spPr>
          <a:xfrm>
            <a:off x="6172200" y="3962520"/>
            <a:ext cx="240048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 the 2 types of ce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xygen IS present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after glycolysis, Acetyl CoA is made and the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Kreb cycle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e’ll save the chemical details of this process for another class, but, basically it produces a whole lot of ATP for the cell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OME BACTERIA REQUIRE OXYGEN, SOME 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BLIGATE 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BLIGATE AN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ACULTATIVE AN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bligate 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NEED oxygen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BLIGAT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eans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EROB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ean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lease energy through cellular respiration or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myobacterium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bligate 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bligate an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DO NOT need oxygen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BLIGAT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ans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AEROB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ans  without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lease energy through cellular respiration or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clostridium botul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bligate an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cultative an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an survive with or without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acultative – means able to function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se bacteria can live just about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 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acultative an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Bacteria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y play an important role in our ow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the nitrogen cycle, which restores nitrate into the soil fo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acteria’s job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eneficial_Bacteria.asf" descr=""/>
          <p:cNvPicPr/>
          <p:nvPr/>
        </p:nvPicPr>
        <p:blipFill>
          <a:blip r:embed="rId1"/>
          <a:stretch/>
        </p:blipFill>
        <p:spPr>
          <a:xfrm>
            <a:off x="990720" y="1420920"/>
            <a:ext cx="71625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“bad”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Harmful_Bacteria_and_the_Body_s_Defenses_Against_Them.asf" descr=""/>
          <p:cNvPicPr/>
          <p:nvPr/>
        </p:nvPicPr>
        <p:blipFill>
          <a:blip r:embed="rId1"/>
          <a:stretch/>
        </p:blipFill>
        <p:spPr>
          <a:xfrm>
            <a:off x="838080" y="1316160"/>
            <a:ext cx="739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benefit of having bacteria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“bad” bacteria and how it affects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lb.ac.be/sciences/biodic/ImBacterie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uckman.com/eng/micro101/bacteri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we find Prokaryot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acteria_are_Everywhere.asf" descr=""/>
          <p:cNvPicPr/>
          <p:nvPr/>
        </p:nvPicPr>
        <p:blipFill>
          <a:blip r:embed="rId1"/>
          <a:stretch/>
        </p:blipFill>
        <p:spPr>
          <a:xfrm>
            <a:off x="914400" y="1679400"/>
            <a:ext cx="6858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 are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 are simple organi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rokaryoticCell"/>
          <p:cNvPicPr/>
          <p:nvPr/>
        </p:nvPicPr>
        <p:blipFill>
          <a:blip r:embed="rId1"/>
          <a:srcRect l="0" t="33337" r="0" b="30556"/>
          <a:stretch/>
        </p:blipFill>
        <p:spPr>
          <a:xfrm>
            <a:off x="2133720" y="2666880"/>
            <a:ext cx="4343400" cy="3516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505320" y="3886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5800" y="64008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courtesy - http://www.cod.edu/people/faculty/fancher/ProkEu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current scientific though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were forme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bill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ears before eukaryotes (or abou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5 billion years a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istory.gif"/>
          <p:cNvPicPr/>
          <p:nvPr/>
        </p:nvPicPr>
        <p:blipFill>
          <a:blip r:embed="rId1"/>
          <a:stretch/>
        </p:blipFill>
        <p:spPr>
          <a:xfrm>
            <a:off x="228600" y="2666880"/>
            <a:ext cx="8701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2:42Z</dcterms:created>
  <dc:creator>SGANSK</dc:creator>
  <dc:description/>
  <dc:language>en-US</dc:language>
  <cp:lastModifiedBy>SADA GANSKE</cp:lastModifiedBy>
  <cp:lastPrinted>2011-11-15T14:17:35Z</cp:lastPrinted>
  <dcterms:modified xsi:type="dcterms:W3CDTF">2011-11-15T15:02:39Z</dcterms:modified>
  <cp:revision>10</cp:revision>
  <dc:subject/>
  <dc:title>Prokaryotes (bacteria) </dc:title>
</cp:coreProperties>
</file>